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4F2-3AB6-40C1-8E99-CB90B417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2148-1C93-451A-8DB5-4B428A4F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A98-A17A-40B3-9D84-7E54DB60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581A-5E47-4248-8791-DD747B5A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1787-EC93-468C-8F7B-8F634B8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CC59E-537B-460A-B499-1000A00A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31AA0-357A-495B-81F0-88477163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542AE-6D26-4282-B465-D4DF98A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391C8-A75C-475E-9C2A-36E0FA1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91822-83DB-4A56-8FB9-349D17B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3EBB1-FB7B-4E03-BB1E-D5DC79E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EE559-277C-46F4-858B-8353E55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FA61A-D626-42A3-8F19-55351407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6EDCB-00E5-4C14-9A40-419E0513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518AF-A399-46F5-BE5B-0CCB882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503A-6177-4B79-8631-01981845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23D39-464B-477F-849A-EC0A3538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523DF-5F72-4F88-8701-303E34EB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93482-D53C-496B-AEDA-ACEF220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292C6-4F13-45C3-A0D1-F9C3602E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635EA-1C2B-43A7-880E-5FDD023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8C422-176D-46F3-B055-25358F3A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3FE1A-7501-417F-A6ED-A6401585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8E310-58B4-4E40-86C8-E71507C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D29C2-F862-48AD-994A-2CB8431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28934-7169-4928-8E6B-8DBEEFF5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C829-C2C1-45D8-B8C6-A852C9FB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E73D9-1FA6-41B5-A14E-05ED4163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EBDB59-3E4F-4E96-B12D-7163510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18A86D-7F26-4712-9FF7-0331D88A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3F6CB6-D311-4586-93CA-6F57BF8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B0958F-F9F5-477C-8008-7834C75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DD71E9-DC34-4DD1-8B5D-77598D5B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B4ED82-5830-4C59-863F-D34BF34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3BB851-149B-44B1-AB85-69764AB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298D4F-0712-41C9-82F1-F79006C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FFC83F-6AC3-4784-B572-45D77AF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C703-558F-4AA0-A09A-42548C5F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FB02EB-2634-483F-AC61-BF78551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A756AF-D81B-47A9-8771-77526345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8F7ABC-FFAE-4610-A5FB-EF9ECDFE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E9E9E-A3B7-4FED-AAF1-6B178180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3930B-FD22-44F7-9740-FC91A0D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8C086-3496-4BAE-9442-ECD81EA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FF86F-BCDC-4EB0-8EC0-4B28DA91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9305F-2F46-4533-8415-19BE7598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97287-A921-407C-8BE8-A9FA95B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6AB46-2882-4AFB-B453-E36A2AD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3FB2-90E1-457B-8F43-040A66D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59F37-F006-4D7C-875B-95DEEBF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57D1C-4F92-4D09-96C8-C03A648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AE572-2192-4397-89DE-FEBC23C3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10C4D-A7B6-4006-A30E-0545BF02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AB038-CD25-404F-9F53-93FA5F5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CAC280-DA91-413C-B2A5-01D58026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F18004-4187-44C2-8FDA-6A3623BA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D630D0-76C3-4351-BE85-E4F16658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0EA07E-38DA-4390-BB20-56141166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64B553-C389-4923-8C73-574F7F7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5BB-9359-4B29-AE40-7221A07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7EAED7-226D-45FB-B3E2-3930265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C1084E-6CFA-472D-9D16-B50D3B2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AB4C96-920C-419C-9686-6F6BC2A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7BA48C-5165-4F7A-BD6A-7F8B5D4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C362B0-8BE0-4260-AFE5-0065B8A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7F2F30-7F2E-43C4-B6A4-FE373B2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EBC807-11CE-477C-880F-6368AB4A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42021C-A6D7-4C81-BC40-6051221B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99B20B-74DF-4F09-84B2-A039931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9F2940-8FA1-4BC3-8A54-7D0A671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49D-CE94-445D-97D4-BDA693AA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338B9E-A626-4CCA-8113-989864BB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9FFEB5-37EB-4612-AF04-AC4AC2F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34D069-8098-4AA7-BE22-538730D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F85740-657E-4ABC-AE02-C86F64E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8F1D3D-385B-42FD-98CB-F110DC6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2394C5-1708-4EA4-B4FA-6F5B5CB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C29E9F-53EC-40A4-8981-5E80E47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EE4FC2-7A18-43DF-8238-58643474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D10B06-75C7-4FCC-8D91-6835A15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3350FA-3212-4C20-9F53-A3E5A926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A3D9-3544-4F9D-9ED4-49E98EC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101FE1-565F-4D09-9342-02BD78A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64E5D6-81BD-4819-B444-9A83E57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67738C-FA48-47D2-99A6-F93A1BFC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6ACD58-1BAD-4FB7-A53B-521EC89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E54FF8-FDB6-4463-BC5B-8DE9D118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D25334-B161-4FB7-B45D-E7ED934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39611E-C563-45F8-B5FC-7D6FFA4B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54ADF-D20A-419C-9A53-703B147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4315D8-B295-4F4D-AD23-EE507CD1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BDE1C4-4A9E-4D52-BAD8-6E9B38A0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DDD2-6509-4FFF-A600-A1548AB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24032F-AD34-4663-8CCB-F218F03D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211819-5E7F-4F06-BC3E-7C5072AD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1A710B-BBEB-4B61-B7C7-0DB0F8F9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8ED644-2C4C-4848-BB67-633713C0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892EC0-3E01-4A03-81DA-BD5F443E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E88D45-686C-4789-A86F-CCB77F8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1349F1-94FE-466A-9767-197C9D4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F2DCBD-E56C-485E-8961-A750C76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D506E2-5DA0-481B-9B85-D9A8CB0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3A1418-D809-4861-BA0B-E7BC640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701-B252-4B10-9DB7-E955698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D2854C-AEDF-4BC2-A150-1EBAEA2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FFF964-E638-4CB0-A5F4-C9E12CC0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05AB8B-4F46-4CBD-8791-4B6281E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AE06F3-4DE3-46D3-AB36-E9BA7D32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C7A9FE-03C5-4352-B5F7-CA950D1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C7F897-57C7-466D-87F2-92525461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97684D-A84A-4D3D-A691-423A41F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2959F1-E0F5-43D6-8541-E0D98D2A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053BF5-C2EC-4D5E-9F58-BD057FF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49491D-4869-46C3-93B8-D8D366F3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A5E3-D4EC-4275-A515-FC5402DE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949-AA19-4062-AF45-0C318787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910CA7-0B05-4A96-BAEE-F4EC106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E5B7F9-EF93-485A-8A9C-9E2026C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5DBE9B-CBA7-401A-AA6D-EA410BC9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984D7B-6F5B-4DA8-860D-ED833530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53A1D5-CEBD-4A05-8C09-C0CED1ED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55CC72-04D6-40EC-88BC-E679348C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FE8BF3-44F6-4162-BD99-83178A0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B08411-B3F1-4A69-A346-EEC2032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7718E8-E32D-489B-A881-65E9C8F1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2BFB8C-6EB9-4A92-9667-84F01018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1B49-4B1B-4A7E-AD3D-3843489C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E93DE3-0CC8-4E76-A45C-C35F4C6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9FC0A2-A323-40A1-A8C4-0F18F61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EA047F-2F1D-4FB0-BCE9-C256AA3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A9C347-2D4A-4B46-A7A0-6A8FC1F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2D2746-9C68-4756-8883-85539F3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42C0D6-0A23-4DE9-985C-72222E7E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31C462-C564-4D18-A18A-0E62D5F7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BC5DF5-C5FE-4DF4-A109-F2681C0C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EF75B5-EE93-4D7A-BA38-3B3A235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DF25CA-B5B8-4FC4-A339-F37BB21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94F5-E543-4A38-9BDC-C17C32A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FEF4AD-A9C3-4879-918C-246CF89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832A15-3103-4058-85E0-2B67EEF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A7230A-5349-4934-8AA0-7785A86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42AC82-4D1E-497F-84E3-44B5B34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C76C91-F553-4C43-9FFC-F417219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BF597C-13AA-40A3-B6DE-95765FB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B7215B-9D67-4908-8FFB-69CF0DDC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EE3F6F-A6B5-4FFC-BA49-837943CC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E4C24E-C2CB-472C-8622-5F271E35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E2F787-D0B6-41B4-BDF0-64ADF2B0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058A-3C79-453C-8EE8-CE2A4A6C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93DCFC-BD33-44D4-9528-9CE5A8C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FAB828-58BA-4B49-8E6D-35E03C9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4B1C83-34F7-4BF7-93CD-CCAD51FB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8F3289-A2F6-435A-860E-8528416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DD3C8D-9C03-4342-91F2-71F96AF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59815D-66BF-45AD-9B6F-011EE74B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2624FE-B200-45F1-9339-9C2AD63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7AC8A8-A996-4EC8-A51C-EFEA009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440BB8-6DAA-4A68-829C-CEE79E8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B87F72-6C49-4388-9EA4-20719F2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650F-2169-4112-B07C-D2CEDFE9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EFA92B-A03C-4172-8A4B-FE3BF48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4BC399-3F0B-42D7-B967-DD15691D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A72D07-671D-441A-A7BA-A338200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BFA06F-75B2-47D5-AA94-187E5DE5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2B4571-3679-4D51-AB4B-39747750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6C5C18-41ED-4499-BBFB-5D8E9132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E7CBCA-FED0-419C-B699-1CF35A9E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B97F56-FDCC-4356-AD8F-9371E69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1AF7D8-F8F0-4770-996B-00A8FE3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135DA0-0159-4B18-AE2B-68ACBA6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CFDC7-12A1-440F-A811-7D2D8F95D19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E9B84C-A573-474A-B99C-8E58AE1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B60087-790F-4ADB-BFF2-FB4C8DC8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636D7F-C022-432B-8727-1C4A928E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5C3CA89-E476-4616-9F84-3B04ED9C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C75F3B-84AD-4D76-A74B-5C1EE4E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159B71-4D19-4406-9B55-EC90605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FEA27EA-D2DB-4B77-9A03-093A834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D7FD1D-3DBC-4362-AD0D-43B380B2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2CFDC7-3DFD-4675-8487-B4A0673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8558769-494E-4B76-9944-E258E54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931BBF-409B-452C-99BB-4B9305572ED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0949B8-74D0-4FB7-80AF-C3A8095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9161088-D6AB-450E-A26F-10F58A6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D975D9-02B7-4222-94BD-6A05B3C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90A6F7-AC78-4E96-A857-8F73A9A4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495C2C-0D72-4C7D-B190-3057C333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94399C-AF2F-42C3-AFD7-ED050AC1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275FE5-C089-4364-862C-5CB03B9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FC0921-B21C-4C76-BF88-0F12839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69457E-E3C1-4ABF-9BD1-67A38656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9930C8-8F8A-45FD-A166-3577679C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7B0DC-41C3-4326-AFFF-D6140059592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20A819-956F-4C4A-BC60-768DE8D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71801D-167B-47B3-BA4C-BC9DCED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C13AAE8-86C4-4271-9031-C4B1E3D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3240DD-E25A-4375-A7D5-F915D9D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C3E4F57-2F24-4C62-A1BD-0489D4A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5FA687-1B14-4187-84CD-3C1D302B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F39B7F-373D-4798-88D0-068C6716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A0356D-123C-48E2-9A11-C6862AA9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01D904-3A40-4BD5-93D2-A1FD13F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A83A54-1A72-4942-ACBA-0DAFAB1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FF48A-3EF1-435D-B800-9986E50524E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F08FD8-301D-4A80-885A-3AB107F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3B0C8A-58B3-4522-98B8-F567F90C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CEC22C-5373-4092-B23C-45367E4B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F596C7-A0E5-40DA-A5A2-8A856F1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ACD6E1-0588-469A-A942-B2AA278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AF2E9EF-BE10-48F6-8EDB-1902F87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8A0F31-565A-4822-9A52-B213377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115705-4A60-4F0F-849C-C30C7D59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6FED83-8EE5-4F03-9E2E-3B504373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C05D84-77F2-46DD-A67D-0B7A7F926C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41736-B10D-450F-9D69-7113955B405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499D7A-6C34-4AC9-96B7-96360CA534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CDB83-309C-4CA8-BF1E-E7DA3D66FFE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478D8C-48D5-43D0-9102-96EED9176B8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6F159-1036-41A6-B5D0-04E56F00114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8C1F99-078C-434F-B4DF-48F3C7C8947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94083-BC46-43C4-870F-A404F39CA6F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6CF3D7-0440-4C6C-A2B9-D8C2579BEA0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6D98DD-B70B-4D70-927C-1BDC78E4F0B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4CFDC4-E38C-49C3-9B3C-F03ED3A9E43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D59D8-A301-423C-A25A-A58FBA757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B425-891E-4E2F-9BBF-DB6F668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4309F-4951-4A7D-B0F3-812B67804D8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59933-8EC1-4561-81FE-011D143A85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27EC6-A3B8-4C3F-9213-438D4BF1E2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BC449-8859-485D-BE75-F68174DB4E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305EB-4CD2-43EE-A849-5ECF5C40CC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F00D5-4A49-4F9D-8E77-A46076C934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6CC02-CAE6-4A5B-A8C5-8E4182A996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80EB3-EFCA-4DA3-8D86-98EF0204EA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B5504-48F9-45BE-9A67-8E52999D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8EDCF-BFAE-40A5-A2BE-BCAE61E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C8A4E-990C-4CF9-B328-CE065C4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9CA8-9250-40C5-8B2E-7688614D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FB6F8-95B8-4901-B42B-83F47E4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D0A16-03A2-4CCD-9C47-120B34D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3085B-2A0D-41AE-8F5B-21C5D9D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0E5B3-B08F-4457-AA5C-28EDFF0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593AB-3F1C-4852-8C97-1A203BE9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123BF-AAB5-43B3-9169-49B1EA6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7B63D-63A3-45A8-B419-680B6F6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D04DA-F43E-44F0-A96C-27CF192F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845A0-3593-4D46-A84E-592872BE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C47697-C509-4E14-8997-2DB5CDDF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B95B-F0F3-4950-9CA3-32DCDA43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6E9CC-2E22-4D99-9CB5-535C634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6FAA1-10C9-4AC0-BC67-B73BB5A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78016-A756-45F4-862B-0A8EF456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28C65C-13AE-4C01-ADC9-AE59E3C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F31E3-3E4F-4E08-905E-8E240D3E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51D46-9287-472E-8999-65CB4F2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21137D-9B56-46B7-9158-852B989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56DA3-4ED8-4D87-B576-9BDAE47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C3187F-5C5C-474D-B9A1-3C4B230B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9222C-26C9-4877-BA0D-5F33F95A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B788-CAD0-4AF4-9583-23C0886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6FB62-B719-4AF8-BF84-9FFDC1A4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C39B2-A6A5-4187-B5AB-5EB15C3D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0FB0D-FDD1-453F-9BB2-21CBA53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FA0FD-EDF2-4005-BF51-8EFB393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EE368-10F3-408E-8961-ABE6A69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5FBC3-3D04-4B0F-B6F7-BED35F19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D7FFC1-78FA-4D80-9558-C9C90F0C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1997A7-FF75-4E8D-A193-D1F9371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2A084-2687-462F-8C75-A31808E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C09EC-89BF-479D-B026-E639E30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BE35-EC74-4114-8FF9-B3AE183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14838-4D45-4E38-B0CA-FFC7B6F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95772-0870-4EB0-82EC-EA73D520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E93CC-D420-4384-AE59-4DC7DCC8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E9C93-AFEB-45A4-8469-2B652746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81356B-5540-4B3E-9050-D3A14FF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926C9-D67F-4C5D-B136-C2849B9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B9BF5B-8169-4A81-ACF1-A48DF73E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DA227-70B3-49D1-BE26-DA869CE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1F0DA9-2BD3-4FF3-9435-4A63D23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01DA8-1A14-44C0-8D3D-17AAF0F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8F94-4436-429E-9A6E-80EA6D2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EE1E5-3DD6-4866-B391-D314A8D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BC5166-8AAC-450A-88AD-C9FA713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85DC5A-E120-44C9-BF6D-64F34E3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C03E0-E5BC-4600-8E87-A1E416C8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66159-3E40-42C1-9046-A8D07C6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A7664F-2983-44B4-A0B2-2ECFC42E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D6FF6-49DF-495D-AA85-6F1A2D4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0B5C59-F91E-4D9C-8BC6-EDF49682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BDF58-4DE9-4372-ABE2-267001E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D0F14-B4F8-4EAB-81FB-11E30EC0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1185-81F6-4FC3-AD6E-2192FFC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29C96-3E2A-4201-8C43-191A8DB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21D1C-AB11-4674-BA07-C6FBE0D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C334A-736C-4CED-90B4-A58C845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CF081-D0DB-4101-8E72-55D22A3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2C8379-98B9-4324-B646-27AD756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6BD7D-13E7-48EC-A100-75D24307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6BD02C-7CC6-49A5-ABFF-D8743CC2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F9571-8ED9-49B7-87C9-C9EE00D7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4F7ED-053C-43B4-ABEA-6E13D28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447C2-80CA-4D91-BC82-C582C2A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4E70-69BA-4F03-9021-943907BC6AA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F2F2-EC82-48B6-8E3E-0D88783A4C8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C1C-0243-4C9B-9473-92623D7E14D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879-0CBD-42CB-B486-D26A5816279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FF2-18F8-4B74-B471-941186782CF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0BA5-5909-4C7F-8F29-1C8815C504A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BAD-7E40-4E15-B8F1-F30D159231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E72-33F0-4213-AEC0-A3663A5C091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FE71-2B4C-4EAE-88E6-28869A4A5B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2D12-9FE4-46D8-B8A1-186608DAB37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6CA1-797D-48FE-8A35-78DB6840E33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D4EC-444F-4EBF-A7CE-DDFA3A1F1B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FBD-F12A-4FAD-A99C-DAB376C578B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D57-0E95-4AC4-A1D3-F537DC0D25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BADF-5472-477A-8B57-AC8514454B8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8C8-8743-4352-9264-E5B0FFE64AA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56CA-2A27-4DBB-B844-E23D257E59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369-1845-4524-8006-E0AB48F71CD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93D-82E8-4936-AFBC-B0FFAE23F63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A60-69EF-41DF-9058-197AC4F60FF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6301-D118-48B3-8D7C-C674EF03448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1B6-6748-4B41-BF4A-9249E41C247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70B-FA28-442F-876E-950EBCC6ED1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9A5C-D6C4-4FB9-AF50-5F3CD9CEA37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B131-AAC3-4E11-A9F4-9D4DBDF6159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A19-36B5-4F7D-A0DD-28169501ED81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Fiv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Calibri"/>
              </a:rPr>
              <a:t>Understanding eCommerce product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veral material changes to the product are necessary for web enab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engine keywords and interactive links to make information available to potential buy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raphics bring life to contents and make them look better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echanism for impartial, open-source reviews and referrals from actual custom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-segmenting and repackaging product based on feedback – making </a:t>
            </a:r>
            <a:r>
              <a:rPr b="0" i="1" lang="en-AU" sz="2600" spc="-1" strike="noStrike">
                <a:solidFill>
                  <a:srgbClr val="000000"/>
                </a:solidFill>
                <a:latin typeface="Gill Sans MT"/>
              </a:rPr>
              <a:t>products easier to sell buy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0E3-16D4-4E5C-BFDE-0BD2F924A0D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ustomers should be able to select, configure, and buy products over inter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3G/4G technologies will increase the capability of ecommer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ustomers can feel the product onlin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take decisions without going to retail sto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ain competitive advant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tandardization and availability of catalogues over intern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ocal languag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and artificial intellige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 - 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roducts to be readily configured and assembled as per customer specifi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72C-7696-4A85-8433-AA1DA8A20FD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 products that can be more easily configu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ilities to request the ingredients, textures, packaging, and chose delivery schedu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tor in large amounts of customer information into the design of the product, including health, diet, portion size, allergies, and demograph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Gill Sans MT"/>
              </a:rPr>
              <a:t>Dynamic 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ast and accurate market pric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alculate product profitability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s per the configuration demanded by the custom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lexible pric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0076-61C7-4D4E-8835-1711B4A8C21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rket-based pricing stru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ata mining/segmentation software will provide data analysis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bundle products with other features and provide a pack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ptimally align the value to the custom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are more demanding and innovate new ‘values’ for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hybrid distribution channel needs to be defin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nline billing for rapid decision and delivery and retu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il respons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ervice and support integrated with e-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F00-2FAD-41F1-97EE-49F118AD832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he chapter talks about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 parameters that need to be considered before getting ready for e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ing product featur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ybrid channels for distribution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ial pricing for products meant for different channels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channel read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EC8-FCCB-4236-ADAA-608A7852144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Benefits of internet based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E-commerce consid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When a product can be marketed over inter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Design criteria for selecting web enabled supply chann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B16-FDB9-4B5B-B7A5-E6FA52FD158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used for marketing is quite importa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are different conduits to reach end us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rrect fitment of products and chann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selling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vailability of products at the right tim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ewer customer proble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ology is changing the shape of the chann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enhancing capability of existing channel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reating new on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itment of products, technology and channel is becoming critic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F73-B946-44E8-B228-13EFB91AB8C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marketing strategy - enabled by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ature and mix of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 and designing of thei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enabling internet with correct  design can take advantage of the web enabl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s that easily fit are digital music, news, financial services, and computer softwa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reates easy brand awareness among consu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5D1-38B2-4380-A7D9-8B5C9C6C3C1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Benefits of Web Enabled Chann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ell pioneered the concept of redesigning the produ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chnology enhances existing selling channels and creates new 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igitize” product catalogues and available to 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o re-architect product specif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 configured information can be pushed to potential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Internet stores (virtual) and online marketplaces that sell products directly on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products are displayed on electronic she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can customize and try out different combin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F16-3E13-4348-9661-86DA0978B86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Benefits of Web Enabled Channels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an help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apid-fire bidding during online au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ot only products but channels need to be web re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fessional services such as executive search, tax consult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Enabling product configuration and assembly that is fast and transparent to the custo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Designing products and services that can be sold through any channel or mix of cha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2BA-AEE6-46F0-97B5-96B4186C866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apability of the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stribution requirements need to be underst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eatures in an interactive mo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ow the products can be stacked in logistics (if ordered through onlin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ersonalized products, personalised services, and fast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e, distribute, and configur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mpare prices and produc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adjusting product pricing on the f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477-E0F2-4B7B-B437-A9D4F61B30B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ider selection of products and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lf-service electronic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online marketing assis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nchmark custome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transaction costs, more self-serv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ilding services into structured pric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ccessorize mature products with desirable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utomatic replenishment ordering, free returns and free 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ical capabilities of the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338-247C-408B-AADF-D023D5C107F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, price, placement, and promotion need to be appli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gitally represent th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stribute products through electronic order fulfi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ublishing and the music industry modify their offerings for digital distrib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 by considering time, medium, and cont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eb’s unique ability to sell contents in small quant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helf life of perishabl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204-255A-4E6F-B9AB-635490F71C6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10T10:41:15Z</dcterms:modified>
  <cp:revision>38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